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5CA-3364-45D8-80D1-0AAE54F3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E29-1E4A-46C8-AC7A-FE6AAAB5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847-12B7-4BCA-ABC0-80AC0400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11D-0E83-4C2D-929E-54ED574F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F60-F502-489B-9BC6-D76CE7E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617F-D529-42FB-AD5B-401A81DD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751-A48B-4B0F-A9B7-0A24A19B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359-C225-4D1A-9AE9-929758F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C9A-80A5-4E79-B850-646E17BE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A75-9D33-4961-8908-8B3B4D4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B40-A490-4115-B7A1-3C0EBC5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785-8A70-424C-9E20-F482C437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6D1C-74DF-46F0-87C7-524DE6A3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2844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9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844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2844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14920" y="2844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‘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6360" y="2838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16360" y="50785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7280" y="50785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‘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93080" y="50720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‘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3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04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51640" y="630864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72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1‘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93080" y="2421000"/>
            <a:ext cx="1726920" cy="576360"/>
          </a:xfrm>
          <a:prstGeom prst="wedgeEllipseCallout">
            <a:avLst>
              <a:gd name="adj1" fmla="val -2023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31,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7‘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Linder Robert</cp:lastModifiedBy>
  <dcterms:modified xsi:type="dcterms:W3CDTF">2004-12-10T10:24:01Z</dcterms:modified>
  <cp:revision>23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linder.robert@siemens.com</vt:lpwstr>
  </property>
  <property fmtid="{D5CDD505-2E9C-101B-9397-08002B2CF9AE}" pid="3" name="_AuthorEmailDisplayName">
    <vt:lpwstr>Linder Robert Com MD PD OS</vt:lpwstr>
  </property>
  <property fmtid="{D5CDD505-2E9C-101B-9397-08002B2CF9AE}" pid="4" name="_EmailEntryID">
    <vt:lpwstr>00000000BDCAF715C440B448BEAB1A6249C7E26907002C596574BA874846A35C843BA87906D70000000FB94B00002C596574BA874846A35C843BA87906D7000001E228A4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363686D69747A4A00</vt:lpwstr>
  </property>
  <property fmtid="{D5CDD505-2E9C-101B-9397-08002B2CF9AE}" pid="6" name="_EmailSubject">
    <vt:lpwstr>Please review 'Budget_Übersicht'</vt:lpwstr>
  </property>
  <property fmtid="{D5CDD505-2E9C-101B-9397-08002B2CF9AE}" pid="7" name="_ReviewCycleID">
    <vt:r8>-804364823</vt:r8>
  </property>
</Properties>
</file>